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1821C-7BE2-42E6-8031-4F19DC701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EB44E-DCC3-4B2A-B27E-F7CC1EF9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E5060-14AE-4567-BFA6-1085490A6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14D9E-2329-4FEE-9F53-B5CFABF77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7575B-3214-4203-BBF3-06AFFB03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AA6AE-E387-494F-8667-DC22C881A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109BC-D4B9-43E5-B49A-FD55C6882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F2CB8-6913-483B-84EF-87E88C41F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4E04D-B5C0-41C9-9E4B-BF15BEB2D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C0CA-41C0-4A12-BA52-BBEA23849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0EC7B-BD62-4FC1-8CED-197057963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AF92-D886-495A-9365-86BFA2277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CB52-CD67-4309-8F33-832DE669F9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overtar nå og foretar en selvstendig vurdering av saken. Behandlingen skal ikke være en sandpåstrøing av turneringsleders avgjørelse. Bruk ikke formulering som vi ”omgjør TLs avgjørelse” eller ”vi støtter TL”.</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ntall medlemmer bør være 3.</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kan være overbevist om at TL har tolket lov/reglement feil. Gi TL anledning til å omgjøre sin beslutning. Nekter TL, er det TLs avgjørelse som blir stående, §93B3. Saken blir nå normalt anket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kan være overbevist om at appellutvalget er på ville veier. Er det en vurderingssak, kan han henstille til utvalget om å endre avgjørelsen, men hvis ikke, er det appellutvalget sin avgjørelse som blir stående. TL kan nå selv sende saken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redegjør først for fakta, hva han har dømt og hvorfor.</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er av partene får nå ordet, appellanten først. Appellutvalget stiller oppklarende spørsmål til partene.</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kusjon mellom partene bør unngåes, men replikker er tillatt når begge parter har forklart se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il slutt får partene anledning til oppsummer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tar sin avgjørelse i enerom. TL er heller ikke tilstede n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kan hele tiden tilkalle TL for å rådføre seg om hva lov og reglement sier om forhold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84D-E krever at TL og appellutvalg beskytter den ikke feilende sid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er formelt forpliktet til å følge TLs fortolkning av lov og reglement. Er appellutvalget enig med TLs fortolkning og skjønn, bør den treffe samme avgjørelse. Husk likevel på § 12C3 som gir appellutvalg større myndighet til å gi justert score enn det TL har for å oppnå et mer rettferdig resultat, men merk at TL langt på vei har fått samme rettighe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kan selvfølgelig komme fram til andre kjensgjerninger og et annet skjønn enn TL. Dette gjelder særlig ved muntlige høringer. Uten muntlig høring, er det normalt, er det normalt TL som fastsetter sakens fakta.</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a stilling til om gebyret skal returneres.</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må være klar over hver av partene tilstreber å gi til beste det som setter dem selv i best mulig lys, og at det er TL som er den nøytrale instans.</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ommen skal avsier skriftlig, enten ved appellutvalgets leder eller ved TL.</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artene skal gjøres oppmerksom på at saken kan ankes videre til LU, men ikke anbefal appell.</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behandler ikke forbrytelser og skal ikke dømme forbrytere. Slike saker sendes til NBF for pådømming i disiplinærnemda.</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skal gi en passende erstatning for påført skade og normale krav til bevisføring i en rettsak, gjelder ikk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bør oppnevnes et appellutvalg i alle offisielle turnering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 turneringer med MP skal det oppnevnes et appellutvalg</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LU er appellutvalg i SM, NM for klubber og i alle NM-final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par eller et lags kaptein kan appellere enhver avgjørelse som TL har tatt ved bordet, se § 92.</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viktig å få fram kjensgjerninger så godt som mulig. ”Jeg hørte spillefører forlange spar 3” er bedre enn ”han sa at han hadde hørt at spillefører hadde forlangt spar 3.”</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rgument som: ”Vi hadde en lignende sak i fjor og da fikk vi medhold.”, faller død til jord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is sunn skepsis når spilleren forteller hva han tenkte på i gitte situasjoner. Tenkingen har ikke blitt dårligere av at spillet er slut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s plikt</a:t>
            </a: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plikter å komme fram til en agjørelse, uansett hvor vanskelig eller ubehagelig saken 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et er bra om avgjørelsen er enstemmig. Det krever at alle har respekt for andres argumenter, men det er ikke gunstig med skinnuenighet. Da er det bedre med en voterin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behandler appellene, se </a:t>
            </a: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3600" spc="-1" strike="noStrike">
                <a:solidFill>
                  <a:srgbClr val="990000"/>
                </a:solidFill>
                <a:latin typeface="Times New Roman"/>
              </a:rPr>
              <a:t>§ 93.</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appellere utgår etter 30 min etter at resultatet er publisert, hvis ikke arrangørene har bestemt noe ann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lle appeller skal gjøres gjennom TL</a:t>
            </a:r>
            <a:endParaRPr b="0" lang="en-US" sz="3600" spc="-1" strike="noStrike">
              <a:solidFill>
                <a:srgbClr val="99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er suveren på lover, reglement og disiplin, men et appellutvalg kan be TL om å omgjøre beslutninge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avgjørelse på lover og reglement som ikke omgjøres, kan appelleres til LU.</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skal gjøre vurderinger av bridgemessig karakt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kan fastslå kjensgjerninger ved høring hvis partene ikke er enige i TLs framstill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skal passe på at ingen tjener på eget lovbrud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 skal</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ære ordstyrer når partene forklarer seg.</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astslå kjensgjerning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oreta bridgemessig skjøn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traffe forseelser etter bridgelovene.</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se 4 oppgavene overtar appellutvalget når appellen blir fremmet.</a:t>
            </a:r>
            <a:endParaRPr b="0" lang="en-US" sz="3200" spc="-1" strike="noStrike">
              <a:solidFill>
                <a:srgbClr val="99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Krav til medlemmene i et appellutvalg</a:t>
            </a:r>
            <a:endParaRPr b="0" lang="en-US" sz="40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valget skal foreta bridgemessige vurderinger og i utvalget bør det derfor være en flere spillere som er minst like gode som de involvert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Medlemmene bør prøve å sett seg inn i mindre flinke spillere sin tankegang. En spiller har krav på å bli bedømt av sine likemenn, så langt råd 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lstreb geografisk spredning, hvis muli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abilitet</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ruk sunn fornuft. Det er ofte tilstrekkelig. Det forventes at inhabile medlemmer selv trekker seg hvis de vet at de er inhabil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 som er med i appellutvalget, bør ikke pleie vennskapelig omgang med en av partene umiddelbart før appellbehandling, eller like ett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en av medlemmene betvile habilitet, bør medlemmet byttes u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s roll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an redegjør for hvilke kjensgjerninger som er fastlagt.</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spørsmål som det er tatt stilling til.</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lover og regler som dekker sak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Og de forskjellige muligheter han har overveiet før avgjørels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isse punktene skal være nedskrevet sammen med partenes forklaring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1:00:15Z</dcterms:created>
  <dc:creator> Kyrre Tangen</dc:creator>
  <dc:description/>
  <dc:language>en-US</dc:language>
  <cp:lastModifiedBy>Per Nordland</cp:lastModifiedBy>
  <dcterms:modified xsi:type="dcterms:W3CDTF">2002-05-03T14:20:33Z</dcterms:modified>
  <cp:revision>3</cp:revision>
  <dc:subject/>
  <dc:title>Appellutvalg og turneringsleder</dc:title>
</cp:coreProperties>
</file>